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B219-4499-4F46-BBEE-14AF59C2D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69A1-D635-4907-89E4-42C534F54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6B9-4AF8-44CF-B48E-F33B5E92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323-D2C0-4DDE-8CCF-5EFB02F3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CCB-8AE9-499C-8C16-B5BBF3EB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1179-2E28-48AE-BE71-DABC965B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F00B-A26E-4A35-8DE8-7305E2FE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2F0E-7917-4A31-9745-A029E7A8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E85F-302D-4332-963D-C0F5C305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D2B2-C95D-4661-AEA7-3D810486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CD19-E665-45EB-85C2-2E7603F1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2F34-D569-42C0-91F9-2D1453E5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FA13-A8AF-4880-8F15-167E0C58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0B5E-E3C3-4FD2-8A3B-2180A672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1C3E-58D9-4D47-B703-51486A91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45D6-6C3E-4E62-A153-32A4663C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C2AD-E303-48B2-9D78-99D1C31C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45BD-A4D0-41C1-96C8-AEC2F226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53D8-A9FF-4C27-A095-1A6068EC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A3B1B-ABB6-41DA-9232-A207EBB7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85411-DF02-4989-B4D9-43DE5C9B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8B6BB-6D44-4176-8177-20B24AC6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01E19-317C-4246-89C8-D2EBB04A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826DA-8954-438F-BC23-7BEFF7E3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D01-9670-4FF6-A874-94532BF9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443BD-7CD4-4EDE-B42F-692AAACB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7C8CF-51BE-46A3-ACAA-5541683D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A4CEC-6F24-43E8-832C-F108CF76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60EFE-B895-450F-A898-6050A4F2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8AD05-8479-48CF-A258-A5681297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6FD92-F297-4532-95CF-207FF34A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4D914-70D1-45A7-A436-A7D12B37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86DB9-A6B7-4F3E-B4BC-BB749768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9B3AF-2A1B-4C16-AA27-1BE613A3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C151B-3C33-4AEE-B73B-1AC6FB4C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034C-0D02-4996-B3E5-4E2BA7E2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7A31B-18D9-4F48-B354-61FAE99F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357BC-B174-4778-9EC5-643CB5ED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5FAAC-5D94-4FDC-9EAA-745C7E32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4143E-0327-44FE-A83A-E3149586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CD7E5-2D23-4C5B-A9E8-3667B8B0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FB55D-F4FE-4F05-9FDA-496DC5E6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5150E-AB77-4B0E-82E8-2213D026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C3DCF-B8CB-47F8-9B46-516CFC4B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2D73E-C4F3-4E09-93D2-2184669C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39EB9-A9F7-4F9A-88E6-E82346E1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8F1-F2B1-44A0-B7F2-6A6C396B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BDF04-6259-41B3-BDF0-A3BB469A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7136D-4C82-4E6B-B33A-1448BF70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A38A9-6462-4665-924C-9446C64F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4B388-BFDF-4DC0-8894-B12D6764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B824D-3DE6-4EFB-8CBB-19E5D6B1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C5D14-2BF8-4D9A-933B-23CCC14F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868C7-8D0A-4801-A143-023F8F64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AE9BA-B2A4-40D3-BC24-0CD619AA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60F61-8785-4D0A-9BC3-8B646F37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AF4EC-6D0A-4204-BBC9-0437F618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CE58-29FE-4D21-8383-58D6F7E0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2E7F1-B26B-4016-A089-8AB06DC8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0D26-C8CB-4380-9EE6-DE53BCA9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FD8-49A0-43DF-B7DE-331EEF48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3785-A854-44E1-BBB9-3AAFA21F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EF6D-BFA8-4C87-BCE9-DFB1AF5E3844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2D12-06F7-4538-9A21-6C7DF39F26F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FC01-6FAA-4DE0-8B37-B034D9B23E57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FC82-9ABC-4A99-84E3-C440D9D3BD00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1AB4-5369-4971-8772-342800E2C316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3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re provided by the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VSH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Perkins TIA Grant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527960" cy="1150920"/>
          </a:xfrm>
          <a:prstGeom prst="rect">
            <a:avLst/>
          </a:prstGeom>
          <a:ln w="0">
            <a:noFill/>
          </a:ln>
        </p:spPr>
      </p:pic>
      <p:pic>
        <p:nvPicPr>
          <p:cNvPr id="279" name="Content Placeholder 3" descr="Puzzle together.jpg"/>
          <p:cNvPicPr/>
          <p:nvPr/>
        </p:nvPicPr>
        <p:blipFill>
          <a:blip r:embed="rId2"/>
          <a:stretch/>
        </p:blipFill>
        <p:spPr>
          <a:xfrm>
            <a:off x="762120" y="1905120"/>
            <a:ext cx="2895480" cy="40384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llaboration Tim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orking together on a common go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6840" y="1609200"/>
            <a:ext cx="7543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Literac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. Reading Comprehension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Note-Taking - Reading for Main Idea - Summarizing &amp; Paraphrasing 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Reading Non-Fiction 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Read more and be tested on what is read.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. Writin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Write clear, complete sentences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Proofreading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Write in other classes.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Writing business letter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. Research Skill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Formatting APA &amp; MLA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4. Vocabular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Mat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. Frac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Least common denominators ( multiples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Add, subtract, multiply and divid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Reduce/simplif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. Solving equa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olving for literal equations - solve for a variabl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rebuchet MS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. Reading Comprehens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c6c6c"/>
                </a:solidFill>
                <a:latin typeface="Trebuchet MS"/>
              </a:rPr>
              <a:t>Focus on what they are reading</a:t>
            </a:r>
            <a:endParaRPr b="0" lang="en-US" sz="17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c6c6c"/>
                </a:solidFill>
                <a:latin typeface="Trebuchet MS"/>
              </a:rPr>
              <a:t>Spelling</a:t>
            </a:r>
            <a:endParaRPr b="0" lang="en-US" sz="17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2. Vocabula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c6c6c"/>
                </a:solidFill>
                <a:latin typeface="Trebuchet MS"/>
              </a:rPr>
              <a:t>Decipher new words using prefixes, suffixes, and root words</a:t>
            </a:r>
            <a:endParaRPr b="0" lang="en-US" sz="17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3. Writing complete though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4. Comprehension of real life mat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5. Fractions with lett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6. Solving Equ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7. Data Analysis and Graphing skill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c6c6c"/>
                </a:solidFill>
                <a:latin typeface="Trebuchet MS"/>
              </a:rPr>
              <a:t>Interpret data and graphs</a:t>
            </a:r>
            <a:endParaRPr b="0" lang="en-US" sz="17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8. Motiv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iteracy, Math, Science teachers will explain and discuss the focus skill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ach teacher will select one focus skil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group will discuss ways to address that focus skill in other class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"/>
          <p:cNvSpPr/>
          <p:nvPr/>
        </p:nvSpPr>
        <p:spPr>
          <a:xfrm>
            <a:off x="0" y="538560"/>
            <a:ext cx="914400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  <a:ea typeface="Calibri"/>
              </a:rPr>
              <a:t>Literacy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Buck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Lynch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Sant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Capehart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Martin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Tramm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Crawford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Phifer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Watk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Harnes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Popejoy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Whitesca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Helam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Sander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Whitta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"/>
          <p:cNvSpPr/>
          <p:nvPr/>
        </p:nvSpPr>
        <p:spPr>
          <a:xfrm>
            <a:off x="0" y="775080"/>
            <a:ext cx="9144000" cy="31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  <a:ea typeface="Calibri"/>
              </a:rPr>
              <a:t>Math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Este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Jenkin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A. Mo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Hall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Keener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Holli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Methvin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"/>
          <p:cNvSpPr/>
          <p:nvPr/>
        </p:nvSpPr>
        <p:spPr>
          <a:xfrm>
            <a:off x="0" y="996120"/>
            <a:ext cx="914400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  <a:ea typeface="Calibri"/>
              </a:rPr>
              <a:t>Science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Bogle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Jone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McElr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Glas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Lassiter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T. Mo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pperplate Gothic Bold"/>
              </a:rPr>
              <a:t>THANK 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pperplate Gothic Bold"/>
              </a:rPr>
              <a:t>YOU!!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3359160" y="420840"/>
            <a:ext cx="5235480" cy="2987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ednesday, January 13, 2010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n top with great test scor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ederal and local money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aching was enjoyab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aught what we liked to teac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ducated our stude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\\vssd-dc-2\faculty-homes$\jgreen\My Pictures\forn856l.jpg"/>
          <p:cNvPicPr/>
          <p:nvPr/>
        </p:nvPicPr>
        <p:blipFill>
          <a:blip r:embed="rId2"/>
          <a:stretch/>
        </p:blipFill>
        <p:spPr>
          <a:xfrm>
            <a:off x="685800" y="1523880"/>
            <a:ext cx="7010280" cy="38862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"/>
          <p:cNvSpPr/>
          <p:nvPr/>
        </p:nvSpPr>
        <p:spPr>
          <a:xfrm>
            <a:off x="990720" y="57913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on’t know why these people are always complaining, we give them stimulating challenging wor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e let them do it 80 hours a we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523880"/>
            <a:ext cx="7238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ccountabil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tandard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st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ederal and local money issu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ood test scor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rd working teach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doption of National Standards and Testing Assessme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mpetition among states for Federal mone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igher Accountabilit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rit Pay for Teacher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We all have a fear of the unknown what one does with that fear will make all the difference in the world.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45720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4" name="Content Placeholder 9" descr="puzzle1.gif"/>
          <p:cNvPicPr/>
          <p:nvPr/>
        </p:nvPicPr>
        <p:blipFill>
          <a:blip r:embed="rId2"/>
          <a:stretch/>
        </p:blipFill>
        <p:spPr>
          <a:xfrm>
            <a:off x="762120" y="388620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puzzle2.gif"/>
          <p:cNvPicPr/>
          <p:nvPr/>
        </p:nvPicPr>
        <p:blipFill>
          <a:blip r:embed="rId3"/>
          <a:stretch/>
        </p:blipFill>
        <p:spPr>
          <a:xfrm>
            <a:off x="3962520" y="5410080"/>
            <a:ext cx="1238040" cy="943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puzzle3.gif"/>
          <p:cNvPicPr/>
          <p:nvPr/>
        </p:nvPicPr>
        <p:blipFill>
          <a:blip r:embed="rId4"/>
          <a:stretch/>
        </p:blipFill>
        <p:spPr>
          <a:xfrm>
            <a:off x="5181480" y="2133720"/>
            <a:ext cx="1076400" cy="1095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puzzle3.gif"/>
          <p:cNvPicPr/>
          <p:nvPr/>
        </p:nvPicPr>
        <p:blipFill>
          <a:blip r:embed="rId5"/>
          <a:stretch/>
        </p:blipFill>
        <p:spPr>
          <a:xfrm>
            <a:off x="6095880" y="5562720"/>
            <a:ext cx="1076400" cy="1095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puzzle4.gif"/>
          <p:cNvPicPr/>
          <p:nvPr/>
        </p:nvPicPr>
        <p:blipFill>
          <a:blip r:embed="rId6"/>
          <a:stretch/>
        </p:blipFill>
        <p:spPr>
          <a:xfrm>
            <a:off x="2133720" y="1828800"/>
            <a:ext cx="971280" cy="1085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4" descr="puzzle4.gif"/>
          <p:cNvPicPr/>
          <p:nvPr/>
        </p:nvPicPr>
        <p:blipFill>
          <a:blip r:embed="rId7"/>
          <a:stretch/>
        </p:blipFill>
        <p:spPr>
          <a:xfrm>
            <a:off x="6553080" y="1600200"/>
            <a:ext cx="971640" cy="1085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5" descr="puzzle4.gif"/>
          <p:cNvPicPr/>
          <p:nvPr/>
        </p:nvPicPr>
        <p:blipFill>
          <a:blip r:embed="rId8"/>
          <a:stretch/>
        </p:blipFill>
        <p:spPr>
          <a:xfrm>
            <a:off x="4038480" y="2971800"/>
            <a:ext cx="971640" cy="108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6" descr="puzzle4.gif"/>
          <p:cNvPicPr/>
          <p:nvPr/>
        </p:nvPicPr>
        <p:blipFill>
          <a:blip r:embed="rId9"/>
          <a:stretch/>
        </p:blipFill>
        <p:spPr>
          <a:xfrm>
            <a:off x="1676520" y="4800600"/>
            <a:ext cx="971280" cy="1085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9" descr="puzzle3.gif"/>
          <p:cNvPicPr/>
          <p:nvPr/>
        </p:nvPicPr>
        <p:blipFill>
          <a:blip r:embed="rId10"/>
          <a:stretch/>
        </p:blipFill>
        <p:spPr>
          <a:xfrm>
            <a:off x="3200400" y="4191120"/>
            <a:ext cx="1076400" cy="1095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0" descr="puzzle3.gif"/>
          <p:cNvPicPr/>
          <p:nvPr/>
        </p:nvPicPr>
        <p:blipFill>
          <a:blip r:embed="rId11"/>
          <a:stretch/>
        </p:blipFill>
        <p:spPr>
          <a:xfrm>
            <a:off x="838080" y="2666880"/>
            <a:ext cx="1076400" cy="1095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1" descr="puzzle2.gif"/>
          <p:cNvPicPr/>
          <p:nvPr/>
        </p:nvPicPr>
        <p:blipFill>
          <a:blip r:embed="rId12"/>
          <a:stretch/>
        </p:blipFill>
        <p:spPr>
          <a:xfrm>
            <a:off x="2286000" y="3352680"/>
            <a:ext cx="1238400" cy="943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2" descr="puzzle2.gif"/>
          <p:cNvPicPr/>
          <p:nvPr/>
        </p:nvPicPr>
        <p:blipFill>
          <a:blip r:embed="rId13"/>
          <a:stretch/>
        </p:blipFill>
        <p:spPr>
          <a:xfrm>
            <a:off x="6248520" y="3352680"/>
            <a:ext cx="1238040" cy="943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3" descr="puzzle2.gif"/>
          <p:cNvPicPr/>
          <p:nvPr/>
        </p:nvPicPr>
        <p:blipFill>
          <a:blip r:embed="rId14"/>
          <a:stretch/>
        </p:blipFill>
        <p:spPr>
          <a:xfrm>
            <a:off x="609480" y="1447920"/>
            <a:ext cx="1238400" cy="942840"/>
          </a:xfrm>
          <a:prstGeom prst="rect">
            <a:avLst/>
          </a:prstGeom>
          <a:ln w="0">
            <a:noFill/>
          </a:ln>
        </p:spPr>
      </p:pic>
      <p:pic>
        <p:nvPicPr>
          <p:cNvPr id="257" name="Content Placeholder 9" descr="puzzle1.gif"/>
          <p:cNvPicPr/>
          <p:nvPr/>
        </p:nvPicPr>
        <p:blipFill>
          <a:blip r:embed="rId15"/>
          <a:stretch/>
        </p:blipFill>
        <p:spPr>
          <a:xfrm>
            <a:off x="5029200" y="4191120"/>
            <a:ext cx="1000080" cy="1085760"/>
          </a:xfrm>
          <a:prstGeom prst="rect">
            <a:avLst/>
          </a:prstGeom>
          <a:ln w="0">
            <a:noFill/>
          </a:ln>
        </p:spPr>
      </p:pic>
      <p:pic>
        <p:nvPicPr>
          <p:cNvPr id="258" name="Content Placeholder 9" descr="puzzle1.gif"/>
          <p:cNvPicPr/>
          <p:nvPr/>
        </p:nvPicPr>
        <p:blipFill>
          <a:blip r:embed="rId16"/>
          <a:stretch/>
        </p:blipFill>
        <p:spPr>
          <a:xfrm>
            <a:off x="3657600" y="1523880"/>
            <a:ext cx="923760" cy="1086120"/>
          </a:xfrm>
          <a:prstGeom prst="rect">
            <a:avLst/>
          </a:prstGeom>
          <a:ln w="0">
            <a:noFill/>
          </a:ln>
        </p:spPr>
      </p:pic>
      <p:pic>
        <p:nvPicPr>
          <p:cNvPr id="259" name="Content Placeholder 9" descr="puzzle1.gif"/>
          <p:cNvPicPr/>
          <p:nvPr/>
        </p:nvPicPr>
        <p:blipFill>
          <a:blip r:embed="rId17"/>
          <a:stretch/>
        </p:blipFill>
        <p:spPr>
          <a:xfrm>
            <a:off x="2819520" y="5562720"/>
            <a:ext cx="923760" cy="10857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28"/>
          <p:cNvSpPr/>
          <p:nvPr/>
        </p:nvSpPr>
        <p:spPr>
          <a:xfrm>
            <a:off x="838080" y="1752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9"/>
          <p:cNvSpPr/>
          <p:nvPr/>
        </p:nvSpPr>
        <p:spPr>
          <a:xfrm>
            <a:off x="3733920" y="1981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0"/>
          <p:cNvSpPr/>
          <p:nvPr/>
        </p:nvSpPr>
        <p:spPr>
          <a:xfrm>
            <a:off x="2438280" y="3657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1"/>
          <p:cNvSpPr/>
          <p:nvPr/>
        </p:nvSpPr>
        <p:spPr>
          <a:xfrm>
            <a:off x="3276720" y="4648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2"/>
          <p:cNvSpPr/>
          <p:nvPr/>
        </p:nvSpPr>
        <p:spPr>
          <a:xfrm>
            <a:off x="6553080" y="19051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3"/>
          <p:cNvSpPr/>
          <p:nvPr/>
        </p:nvSpPr>
        <p:spPr>
          <a:xfrm>
            <a:off x="990720" y="297180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al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4"/>
          <p:cNvSpPr/>
          <p:nvPr/>
        </p:nvSpPr>
        <p:spPr>
          <a:xfrm>
            <a:off x="2362320" y="2209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5"/>
          <p:cNvSpPr/>
          <p:nvPr/>
        </p:nvSpPr>
        <p:spPr>
          <a:xfrm>
            <a:off x="5257800" y="25909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6"/>
          <p:cNvSpPr/>
          <p:nvPr/>
        </p:nvSpPr>
        <p:spPr>
          <a:xfrm>
            <a:off x="762120" y="4343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7"/>
          <p:cNvSpPr/>
          <p:nvPr/>
        </p:nvSpPr>
        <p:spPr>
          <a:xfrm>
            <a:off x="4038480" y="335268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8"/>
          <p:cNvSpPr/>
          <p:nvPr/>
        </p:nvSpPr>
        <p:spPr>
          <a:xfrm>
            <a:off x="5029200" y="4419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9"/>
          <p:cNvSpPr/>
          <p:nvPr/>
        </p:nvSpPr>
        <p:spPr>
          <a:xfrm>
            <a:off x="61722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0"/>
          <p:cNvSpPr/>
          <p:nvPr/>
        </p:nvSpPr>
        <p:spPr>
          <a:xfrm>
            <a:off x="4038480" y="5715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se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1"/>
          <p:cNvSpPr/>
          <p:nvPr/>
        </p:nvSpPr>
        <p:spPr>
          <a:xfrm>
            <a:off x="6477120" y="3581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2"/>
          <p:cNvSpPr/>
          <p:nvPr/>
        </p:nvSpPr>
        <p:spPr>
          <a:xfrm>
            <a:off x="1676520" y="5105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3"/>
          <p:cNvSpPr/>
          <p:nvPr/>
        </p:nvSpPr>
        <p:spPr>
          <a:xfrm>
            <a:off x="2819520" y="5867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7" name="Content Placeholder 3" descr="puzzlefour.jpg"/>
          <p:cNvPicPr/>
          <p:nvPr/>
        </p:nvPicPr>
        <p:blipFill>
          <a:blip r:embed="rId2"/>
          <a:stretch/>
        </p:blipFill>
        <p:spPr>
          <a:xfrm>
            <a:off x="609480" y="1905120"/>
            <a:ext cx="67820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5:01:24Z</dcterms:created>
  <dc:creator>jgreen</dc:creator>
  <dc:description/>
  <dc:language>en-US</dc:language>
  <cp:lastModifiedBy>jgreen</cp:lastModifiedBy>
  <dcterms:modified xsi:type="dcterms:W3CDTF">2010-01-13T19:35:01Z</dcterms:modified>
  <cp:revision>61</cp:revision>
  <dc:subject/>
  <dc:title>Total Instructional Alignment Grant</dc:title>
</cp:coreProperties>
</file>